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968640" y="0"/>
            <a:ext cx="303552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81160" y="696600"/>
            <a:ext cx="46432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826480"/>
            <a:ext cx="30351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968640" y="8826480"/>
            <a:ext cx="303552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9CF700-3C57-43DC-B890-AF25D9062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many Barr bodies would you expec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many Barr bodies would you expec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many Barr bodies would you expec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many Barr bodies would you expec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many Barr bodies would you expec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hat process would 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AA6D-828E-4361-AD5E-57A64D6DEC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4BB0-192C-4BCB-957E-0A886772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E175-5835-4E37-9776-1D4E0195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46DF-7E60-40FE-A2E1-5DB1E1AB64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7DB5-BEEE-43B2-BEF3-95B20A16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3302-639C-422D-BE5A-C2405308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0AC1-5A18-448A-BE04-872267AA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688C-986D-496C-A342-A703C090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7D26-B3FF-43B4-9098-048242D5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0316-2DE9-471B-90A2-641C7F1A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5ABC-F337-424B-9C83-6907E33D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A6B8-F150-4E6B-8E76-7C0B6F1C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D9B3-347E-4B0D-900E-ABF0FC68E2F1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99520" y="355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romosomal Abnormaliti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79204" b="15894"/>
          <a:stretch/>
        </p:blipFill>
        <p:spPr>
          <a:xfrm>
            <a:off x="7121520" y="685800"/>
            <a:ext cx="1031760" cy="23623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15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EE7F-CA3C-43D1-84FC-60B73C114B0A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tic testing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rcRect l="0" t="2402" r="0" b="9000"/>
          <a:stretch/>
        </p:blipFill>
        <p:spPr>
          <a:xfrm>
            <a:off x="2057400" y="3160800"/>
            <a:ext cx="5562720" cy="3697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mniocentesis in 2nd trimest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ample of embryo cel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ain &amp; photograph chromosom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alysis of karyotyp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DBB0-B6E0-45AC-9A95-C0E61A7B60DA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rcRect l="10128" t="2252" r="13500" b="0"/>
          <a:stretch/>
        </p:blipFill>
        <p:spPr>
          <a:xfrm>
            <a:off x="5562720" y="3459240"/>
            <a:ext cx="3543120" cy="33987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x chromo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uman development more tolerant of wrong numbers in sex chromosom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ut produces a variety of distinct conditions in huma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XXY = Klinefelter’s syndrome male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XXX = Trisomy X fema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XYY = Jacob’s syndrome ma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XO   = Turner syndrome fema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linefelter’s syndrom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XY ma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e in every 2000 live birt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ave male sex organs, but are steri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eminine characteristic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a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rmal intelligenc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3251160" cy="49276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5308-1F36-4AA0-B804-8C49DFE31BD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Klinefelter’s syndrome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587920" cy="54356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105520" y="5334120"/>
            <a:ext cx="2514600" cy="129528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D14D-8B06-4DA3-8AE2-C63F65D064C7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26920" y="1173240"/>
            <a:ext cx="7174080" cy="53798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Klinefelter’s syndrome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91320" y="5410080"/>
            <a:ext cx="2057400" cy="1295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4BFC-2E6F-49F6-9453-98618F032AD4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Jacob’s syndrome ma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YY Mal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in 1000 live male birt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tra Y chromoso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mewhat taller than averag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re activ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light learning disabiliti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layed emotional maturit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rmal intelligence, normal sexual developm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C62B-C2C3-4739-BD7A-25BA2013702C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174080" cy="53802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181480" y="5334120"/>
            <a:ext cx="2514600" cy="129528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XYY Ma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E737-7406-4209-9B57-426E2A593161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isomy X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XX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in every 2000 live birt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 healthy fema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116a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y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2832120" cy="19004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48320" y="3962520"/>
            <a:ext cx="3657600" cy="2128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5B53-079B-477F-A1C2-9D2888BB954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urner syndrom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4191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nosomy X or X0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in every 5000 birt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varied degree of effec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ebbed neck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hort sta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mmature sterile female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8102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urner syndrom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2E03-D1BD-43BC-92AC-0E4E875C5BAF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romosomal abnormaliti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correct number of chromosom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nondisjuncti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romosomes don’t separate properly during meiosi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reakage of chromosom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le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uplica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vers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nsloca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5A80-0839-4D38-8C99-ECBC5DC946F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anges in chromosome 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0760" y="1712880"/>
            <a:ext cx="9093240" cy="45356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2DEB-0D76-4A23-A689-C3AF48B14C21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20C9-B0B6-4442-BA0B-806BF0877BE6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ondisjunc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blems with meiotic spindle cause errors in daughter cell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etrad chromosomes do not separate properly during Meiosis 1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ister chromatids fail to separate during Meiosis 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oo many or too few chromosom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4191120"/>
            <a:ext cx="2666880" cy="2666880"/>
            <a:chOff x="762120" y="4191120"/>
            <a:chExt cx="2666880" cy="2666880"/>
          </a:xfrm>
        </p:grpSpPr>
        <p:sp>
          <p:nvSpPr>
            <p:cNvPr id="114" name=""/>
            <p:cNvSpPr/>
            <p:nvPr/>
          </p:nvSpPr>
          <p:spPr>
            <a:xfrm>
              <a:off x="762120" y="4191120"/>
              <a:ext cx="2666880" cy="266688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606680" y="4419720"/>
              <a:ext cx="450360" cy="914400"/>
              <a:chOff x="1606680" y="4419720"/>
              <a:chExt cx="450360" cy="91440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6680" y="4419720"/>
                <a:ext cx="222120" cy="9144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834560" y="4419720"/>
                <a:ext cx="222120" cy="9144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063880" y="4419720"/>
              <a:ext cx="450360" cy="914400"/>
              <a:chOff x="2063880" y="4419720"/>
              <a:chExt cx="450360" cy="914400"/>
            </a:xfrm>
          </p:grpSpPr>
          <p:sp>
            <p:nvSpPr>
              <p:cNvPr id="119" name=""/>
              <p:cNvSpPr/>
              <p:nvPr/>
            </p:nvSpPr>
            <p:spPr>
              <a:xfrm>
                <a:off x="2063880" y="4419720"/>
                <a:ext cx="222120" cy="9144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2291760" y="4419720"/>
                <a:ext cx="222120" cy="9144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676520" y="5562720"/>
              <a:ext cx="380160" cy="457200"/>
              <a:chOff x="1676520" y="5562720"/>
              <a:chExt cx="380160" cy="457200"/>
            </a:xfrm>
          </p:grpSpPr>
          <p:sp>
            <p:nvSpPr>
              <p:cNvPr id="122" name=""/>
              <p:cNvSpPr/>
              <p:nvPr/>
            </p:nvSpPr>
            <p:spPr>
              <a:xfrm>
                <a:off x="1676520" y="5562720"/>
                <a:ext cx="187560" cy="4572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1868760" y="5562720"/>
                <a:ext cx="187560" cy="4572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057400" y="5562720"/>
              <a:ext cx="380160" cy="457200"/>
              <a:chOff x="2057400" y="5562720"/>
              <a:chExt cx="38016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2057400" y="5562720"/>
                <a:ext cx="187560" cy="4572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2249640" y="5562720"/>
                <a:ext cx="187560" cy="4572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752480" y="6248520"/>
              <a:ext cx="304200" cy="380880"/>
              <a:chOff x="1752480" y="6248520"/>
              <a:chExt cx="304200" cy="38088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1752480" y="6248520"/>
                <a:ext cx="131760" cy="38088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flipV="1">
                <a:off x="1924200" y="6248520"/>
                <a:ext cx="132120" cy="38088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057400" y="6248520"/>
              <a:ext cx="304200" cy="380880"/>
              <a:chOff x="2057400" y="6248520"/>
              <a:chExt cx="304200" cy="38088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057400" y="6248520"/>
                <a:ext cx="131760" cy="38088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2229120" y="6248520"/>
                <a:ext cx="132120" cy="38088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4495680" y="3886200"/>
            <a:ext cx="1447920" cy="2971800"/>
            <a:chOff x="4495680" y="3886200"/>
            <a:chExt cx="1447920" cy="2971800"/>
          </a:xfrm>
        </p:grpSpPr>
        <p:grpSp>
          <p:nvGrpSpPr>
            <p:cNvPr id="134" name=""/>
            <p:cNvGrpSpPr/>
            <p:nvPr/>
          </p:nvGrpSpPr>
          <p:grpSpPr>
            <a:xfrm>
              <a:off x="4495680" y="3886200"/>
              <a:ext cx="1447920" cy="1447920"/>
              <a:chOff x="4495680" y="3886200"/>
              <a:chExt cx="1447920" cy="14479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95680" y="3886200"/>
                <a:ext cx="1447920" cy="14479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4800600" y="4114800"/>
                <a:ext cx="450360" cy="914400"/>
                <a:chOff x="4800600" y="4114800"/>
                <a:chExt cx="450360" cy="9144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800600" y="4114800"/>
                  <a:ext cx="222120" cy="9144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028480" y="4114800"/>
                  <a:ext cx="222120" cy="9144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5334120" y="4191120"/>
                <a:ext cx="380160" cy="457200"/>
                <a:chOff x="5334120" y="4191120"/>
                <a:chExt cx="38016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334120" y="4191120"/>
                  <a:ext cx="187560" cy="4572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5526360" y="4191120"/>
                  <a:ext cx="187560" cy="4572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257800" y="4800600"/>
                <a:ext cx="304200" cy="380880"/>
                <a:chOff x="5257800" y="4800600"/>
                <a:chExt cx="30420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 flipV="1">
                  <a:off x="5257800" y="4800600"/>
                  <a:ext cx="131760" cy="380880"/>
                </a:xfrm>
                <a:custGeom>
                  <a:avLst/>
                  <a:gdLst/>
                  <a:ahLst/>
                  <a:rect l="l" t="t" r="r" b="b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 flipV="1">
                  <a:off x="5429520" y="4800600"/>
                  <a:ext cx="132120" cy="380880"/>
                </a:xfrm>
                <a:custGeom>
                  <a:avLst/>
                  <a:gdLst/>
                  <a:ahLst/>
                  <a:rect l="l" t="t" r="r" b="b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" name=""/>
            <p:cNvGrpSpPr/>
            <p:nvPr/>
          </p:nvGrpSpPr>
          <p:grpSpPr>
            <a:xfrm>
              <a:off x="4495680" y="5410080"/>
              <a:ext cx="1447920" cy="1447920"/>
              <a:chOff x="4495680" y="5410080"/>
              <a:chExt cx="1447920" cy="1447920"/>
            </a:xfrm>
          </p:grpSpPr>
          <p:sp>
            <p:nvSpPr>
              <p:cNvPr id="146" name=""/>
              <p:cNvSpPr/>
              <p:nvPr/>
            </p:nvSpPr>
            <p:spPr>
              <a:xfrm>
                <a:off x="4495680" y="5410080"/>
                <a:ext cx="1447920" cy="14479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4724280" y="5715000"/>
                <a:ext cx="450360" cy="914400"/>
                <a:chOff x="4724280" y="5715000"/>
                <a:chExt cx="450360" cy="9144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724280" y="5715000"/>
                  <a:ext cx="222120" cy="9144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4952160" y="5715000"/>
                  <a:ext cx="222120" cy="9144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181480" y="6248520"/>
                <a:ext cx="380520" cy="457200"/>
                <a:chOff x="5181480" y="6248520"/>
                <a:chExt cx="380520" cy="4572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181480" y="6248520"/>
                  <a:ext cx="187560" cy="4572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5374080" y="6248520"/>
                  <a:ext cx="187560" cy="4572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noFill/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334120" y="5715000"/>
                <a:ext cx="304200" cy="380880"/>
                <a:chOff x="5334120" y="5715000"/>
                <a:chExt cx="304200" cy="380880"/>
              </a:xfrm>
            </p:grpSpPr>
            <p:sp>
              <p:nvSpPr>
                <p:cNvPr id="154" name=""/>
                <p:cNvSpPr/>
                <p:nvPr/>
              </p:nvSpPr>
              <p:spPr>
                <a:xfrm flipV="1">
                  <a:off x="5334120" y="5715000"/>
                  <a:ext cx="131760" cy="380880"/>
                </a:xfrm>
                <a:custGeom>
                  <a:avLst/>
                  <a:gdLst/>
                  <a:ahLst/>
                  <a:rect l="l" t="t" r="r" b="b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5505840" y="5715000"/>
                  <a:ext cx="132120" cy="380880"/>
                </a:xfrm>
                <a:custGeom>
                  <a:avLst/>
                  <a:gdLst/>
                  <a:ahLst/>
                  <a:rect l="l" t="t" r="r" b="b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noFill/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6" name=""/>
          <p:cNvSpPr/>
          <p:nvPr/>
        </p:nvSpPr>
        <p:spPr>
          <a:xfrm>
            <a:off x="2057400" y="4038480"/>
            <a:ext cx="0" cy="3048120"/>
          </a:xfrm>
          <a:prstGeom prst="line">
            <a:avLst/>
          </a:prstGeom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495680" y="3886200"/>
            <a:ext cx="1447920" cy="2971800"/>
            <a:chOff x="4495680" y="3886200"/>
            <a:chExt cx="1447920" cy="2971800"/>
          </a:xfrm>
        </p:grpSpPr>
        <p:grpSp>
          <p:nvGrpSpPr>
            <p:cNvPr id="158" name=""/>
            <p:cNvGrpSpPr/>
            <p:nvPr/>
          </p:nvGrpSpPr>
          <p:grpSpPr>
            <a:xfrm>
              <a:off x="4495680" y="3886200"/>
              <a:ext cx="1447920" cy="1447920"/>
              <a:chOff x="4495680" y="3886200"/>
              <a:chExt cx="1447920" cy="1447920"/>
            </a:xfrm>
          </p:grpSpPr>
          <p:sp>
            <p:nvSpPr>
              <p:cNvPr id="159" name=""/>
              <p:cNvSpPr/>
              <p:nvPr/>
            </p:nvSpPr>
            <p:spPr>
              <a:xfrm>
                <a:off x="4495680" y="3886200"/>
                <a:ext cx="1447920" cy="1447920"/>
              </a:xfrm>
              <a:prstGeom prst="ellipse">
                <a:avLst/>
              </a:prstGeom>
              <a:solidFill>
                <a:srgbClr val="eba045"/>
              </a:solidFill>
              <a:ln w="9360">
                <a:solidFill>
                  <a:srgbClr val="eba0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4800600" y="4114800"/>
                <a:ext cx="450360" cy="914400"/>
                <a:chOff x="4800600" y="4114800"/>
                <a:chExt cx="450360" cy="914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800600" y="4114800"/>
                  <a:ext cx="222120" cy="9144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5028480" y="4114800"/>
                  <a:ext cx="222120" cy="9144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257800" y="4343400"/>
                <a:ext cx="380160" cy="457200"/>
                <a:chOff x="5257800" y="4343400"/>
                <a:chExt cx="380160" cy="4572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257800" y="4343400"/>
                  <a:ext cx="187560" cy="4572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5450040" y="4343400"/>
                  <a:ext cx="187560" cy="4572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4495680" y="5410080"/>
              <a:ext cx="1447920" cy="1447920"/>
              <a:chOff x="4495680" y="5410080"/>
              <a:chExt cx="1447920" cy="1447920"/>
            </a:xfrm>
          </p:grpSpPr>
          <p:sp>
            <p:nvSpPr>
              <p:cNvPr id="167" name=""/>
              <p:cNvSpPr/>
              <p:nvPr/>
            </p:nvSpPr>
            <p:spPr>
              <a:xfrm>
                <a:off x="4495680" y="5410080"/>
                <a:ext cx="1447920" cy="1447920"/>
              </a:xfrm>
              <a:prstGeom prst="ellipse">
                <a:avLst/>
              </a:prstGeom>
              <a:solidFill>
                <a:srgbClr val="eba045"/>
              </a:solidFill>
              <a:ln w="9360">
                <a:solidFill>
                  <a:srgbClr val="eba0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4724280" y="5715000"/>
                <a:ext cx="450360" cy="914400"/>
                <a:chOff x="4724280" y="5715000"/>
                <a:chExt cx="450360" cy="9144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724280" y="5715000"/>
                  <a:ext cx="222120" cy="9144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4952160" y="5715000"/>
                  <a:ext cx="222120" cy="9144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105520" y="6248520"/>
                <a:ext cx="380160" cy="457200"/>
                <a:chOff x="5105520" y="6248520"/>
                <a:chExt cx="380160" cy="4572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105520" y="6248520"/>
                  <a:ext cx="187560" cy="4572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5297760" y="6248520"/>
                  <a:ext cx="187560" cy="457200"/>
                </a:xfrm>
                <a:custGeom>
                  <a:avLst/>
                  <a:gdLst/>
                  <a:ahLst/>
                  <a:rect l="l" t="t" r="r" b="b"/>
                  <a:pathLst>
                    <a:path w="152" h="624">
                      <a:moveTo>
                        <a:pt x="0" y="0"/>
                      </a:moveTo>
                      <a:cubicBezTo>
                        <a:pt x="68" y="92"/>
                        <a:pt x="136" y="184"/>
                        <a:pt x="144" y="288"/>
                      </a:cubicBezTo>
                      <a:cubicBezTo>
                        <a:pt x="152" y="392"/>
                        <a:pt x="64" y="568"/>
                        <a:pt x="48" y="624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257800" y="5562720"/>
                <a:ext cx="304200" cy="380880"/>
                <a:chOff x="5257800" y="5562720"/>
                <a:chExt cx="304200" cy="380880"/>
              </a:xfrm>
            </p:grpSpPr>
            <p:sp>
              <p:nvSpPr>
                <p:cNvPr id="175" name=""/>
                <p:cNvSpPr/>
                <p:nvPr/>
              </p:nvSpPr>
              <p:spPr>
                <a:xfrm flipV="1">
                  <a:off x="5257800" y="5562720"/>
                  <a:ext cx="131760" cy="380880"/>
                </a:xfrm>
                <a:custGeom>
                  <a:avLst/>
                  <a:gdLst/>
                  <a:ahLst/>
                  <a:rect l="l" t="t" r="r" b="b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flipV="1">
                  <a:off x="5429520" y="5562720"/>
                  <a:ext cx="132120" cy="380880"/>
                </a:xfrm>
                <a:custGeom>
                  <a:avLst/>
                  <a:gdLst/>
                  <a:ahLst/>
                  <a:rect l="l" t="t" r="r" b="b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0f11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486400" y="6019920"/>
                <a:ext cx="304200" cy="380880"/>
                <a:chOff x="5486400" y="6019920"/>
                <a:chExt cx="304200" cy="380880"/>
              </a:xfrm>
            </p:grpSpPr>
            <p:sp>
              <p:nvSpPr>
                <p:cNvPr id="178" name=""/>
                <p:cNvSpPr/>
                <p:nvPr/>
              </p:nvSpPr>
              <p:spPr>
                <a:xfrm flipV="1">
                  <a:off x="5486400" y="6019920"/>
                  <a:ext cx="131760" cy="380880"/>
                </a:xfrm>
                <a:custGeom>
                  <a:avLst/>
                  <a:gdLst/>
                  <a:ahLst/>
                  <a:rect l="l" t="t" r="r" b="b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flipV="1">
                  <a:off x="5658120" y="6019920"/>
                  <a:ext cx="132120" cy="380880"/>
                </a:xfrm>
                <a:custGeom>
                  <a:avLst/>
                  <a:gdLst/>
                  <a:ahLst/>
                  <a:rect l="l" t="t" r="r" b="b"/>
                  <a:pathLst>
                    <a:path w="104" h="288">
                      <a:moveTo>
                        <a:pt x="0" y="0"/>
                      </a:moveTo>
                      <a:cubicBezTo>
                        <a:pt x="44" y="72"/>
                        <a:pt x="88" y="144"/>
                        <a:pt x="96" y="192"/>
                      </a:cubicBezTo>
                      <a:cubicBezTo>
                        <a:pt x="104" y="240"/>
                        <a:pt x="76" y="264"/>
                        <a:pt x="48" y="288"/>
                      </a:cubicBezTo>
                    </a:path>
                  </a:pathLst>
                </a:custGeom>
                <a:solidFill>
                  <a:srgbClr val="eba045"/>
                </a:solidFill>
                <a:ln w="7632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0" name=""/>
          <p:cNvGrpSpPr/>
          <p:nvPr/>
        </p:nvGrpSpPr>
        <p:grpSpPr>
          <a:xfrm>
            <a:off x="6858000" y="3886200"/>
            <a:ext cx="1447920" cy="2971800"/>
            <a:chOff x="6858000" y="3886200"/>
            <a:chExt cx="1447920" cy="2971800"/>
          </a:xfrm>
        </p:grpSpPr>
        <p:grpSp>
          <p:nvGrpSpPr>
            <p:cNvPr id="181" name=""/>
            <p:cNvGrpSpPr/>
            <p:nvPr/>
          </p:nvGrpSpPr>
          <p:grpSpPr>
            <a:xfrm>
              <a:off x="6858000" y="3886200"/>
              <a:ext cx="1447920" cy="1447920"/>
              <a:chOff x="6858000" y="3886200"/>
              <a:chExt cx="1447920" cy="1447920"/>
            </a:xfrm>
          </p:grpSpPr>
          <p:sp>
            <p:nvSpPr>
              <p:cNvPr id="182" name=""/>
              <p:cNvSpPr/>
              <p:nvPr/>
            </p:nvSpPr>
            <p:spPr>
              <a:xfrm>
                <a:off x="6858000" y="3886200"/>
                <a:ext cx="1447920" cy="14479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15200" y="4191120"/>
                <a:ext cx="222120" cy="9144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7889040" y="4191120"/>
                <a:ext cx="187560" cy="4572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7696080" y="4723560"/>
                <a:ext cx="131760" cy="38124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858000" y="5410080"/>
              <a:ext cx="1447920" cy="1447920"/>
              <a:chOff x="6858000" y="5410080"/>
              <a:chExt cx="1447920" cy="14479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58000" y="5410080"/>
                <a:ext cx="1447920" cy="14479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238880" y="5715000"/>
                <a:ext cx="222480" cy="9144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7737480" y="6248520"/>
                <a:ext cx="187200" cy="4572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7696080" y="5715000"/>
                <a:ext cx="131760" cy="38088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3581280" y="5334120"/>
            <a:ext cx="762120" cy="38088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5334120"/>
            <a:ext cx="762120" cy="38088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76520" y="3962520"/>
            <a:ext cx="380880" cy="2971800"/>
            <a:chOff x="1676520" y="3962520"/>
            <a:chExt cx="380880" cy="2971800"/>
          </a:xfrm>
        </p:grpSpPr>
        <p:sp>
          <p:nvSpPr>
            <p:cNvPr id="194" name=""/>
            <p:cNvSpPr/>
            <p:nvPr/>
          </p:nvSpPr>
          <p:spPr>
            <a:xfrm>
              <a:off x="2057400" y="3962520"/>
              <a:ext cx="0" cy="2057400"/>
            </a:xfrm>
            <a:prstGeom prst="line">
              <a:avLst/>
            </a:prstGeom>
            <a:ln w="572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6096240"/>
              <a:ext cx="0" cy="838080"/>
            </a:xfrm>
            <a:prstGeom prst="line">
              <a:avLst/>
            </a:prstGeom>
            <a:ln w="572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1676520" y="6096240"/>
              <a:ext cx="380880" cy="0"/>
            </a:xfrm>
            <a:prstGeom prst="line">
              <a:avLst/>
            </a:prstGeom>
            <a:ln w="572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858000" y="3886200"/>
            <a:ext cx="1447920" cy="2971800"/>
            <a:chOff x="6858000" y="3886200"/>
            <a:chExt cx="1447920" cy="2971800"/>
          </a:xfrm>
        </p:grpSpPr>
        <p:grpSp>
          <p:nvGrpSpPr>
            <p:cNvPr id="198" name=""/>
            <p:cNvGrpSpPr/>
            <p:nvPr/>
          </p:nvGrpSpPr>
          <p:grpSpPr>
            <a:xfrm>
              <a:off x="6858000" y="3886200"/>
              <a:ext cx="1447920" cy="2971800"/>
              <a:chOff x="6858000" y="3886200"/>
              <a:chExt cx="1447920" cy="2971800"/>
            </a:xfrm>
          </p:grpSpPr>
          <p:sp>
            <p:nvSpPr>
              <p:cNvPr id="199" name=""/>
              <p:cNvSpPr/>
              <p:nvPr/>
            </p:nvSpPr>
            <p:spPr>
              <a:xfrm>
                <a:off x="6858000" y="3886200"/>
                <a:ext cx="1447920" cy="1447920"/>
              </a:xfrm>
              <a:prstGeom prst="ellipse">
                <a:avLst/>
              </a:prstGeom>
              <a:solidFill>
                <a:srgbClr val="eba045"/>
              </a:solidFill>
              <a:ln w="9360">
                <a:solidFill>
                  <a:srgbClr val="eba0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858000" y="5410080"/>
                <a:ext cx="1447920" cy="1447920"/>
              </a:xfrm>
              <a:prstGeom prst="ellipse">
                <a:avLst/>
              </a:prstGeom>
              <a:solidFill>
                <a:srgbClr val="eba045"/>
              </a:solidFill>
              <a:ln w="9360">
                <a:solidFill>
                  <a:srgbClr val="eba0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15200" y="4191120"/>
              <a:ext cx="222480" cy="9144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90120" y="4191120"/>
              <a:ext cx="187200" cy="4572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9240" y="5715000"/>
              <a:ext cx="222120" cy="9144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620120" y="6248520"/>
              <a:ext cx="187200" cy="4572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925040" y="5943600"/>
              <a:ext cx="131760" cy="38088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7543800" y="5486400"/>
              <a:ext cx="131760" cy="38088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81280" y="5334120"/>
            <a:ext cx="762120" cy="38088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5334120"/>
            <a:ext cx="762120" cy="38088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0040" y="426636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2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538120" y="4266360"/>
            <a:ext cx="351360" cy="2181600"/>
            <a:chOff x="8538120" y="4266360"/>
            <a:chExt cx="351360" cy="2181600"/>
          </a:xfrm>
        </p:grpSpPr>
        <p:sp>
          <p:nvSpPr>
            <p:cNvPr id="211" name=""/>
            <p:cNvSpPr/>
            <p:nvPr/>
          </p:nvSpPr>
          <p:spPr>
            <a:xfrm>
              <a:off x="8538120" y="4266360"/>
              <a:ext cx="35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38120" y="6018840"/>
              <a:ext cx="35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8378640" y="4266000"/>
            <a:ext cx="669960" cy="2181960"/>
            <a:chOff x="8378640" y="4266000"/>
            <a:chExt cx="669960" cy="2181960"/>
          </a:xfrm>
        </p:grpSpPr>
        <p:sp>
          <p:nvSpPr>
            <p:cNvPr id="214" name=""/>
            <p:cNvSpPr/>
            <p:nvPr/>
          </p:nvSpPr>
          <p:spPr>
            <a:xfrm>
              <a:off x="8415360" y="4266000"/>
              <a:ext cx="599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00"/>
                  </a:solidFill>
                  <a:latin typeface="Arial"/>
                </a:rPr>
                <a:t>n-1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78640" y="601884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00"/>
                  </a:solidFill>
                  <a:latin typeface="Arial"/>
                </a:rPr>
                <a:t>n+1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8534520" y="6507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6DC1-75B2-4474-B50C-D56A58A53B3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lteration of chromosome numb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077320" cy="5445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2BDD-B77B-4C08-9762-19C1283BFA31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ondisjunc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by has wrong chromosome numb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trisomy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ells have 3 copies of a chromosome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monosomy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ells have only 1 copy of a chromosome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562720" y="3809880"/>
            <a:ext cx="1447560" cy="1447560"/>
            <a:chOff x="5562720" y="3809880"/>
            <a:chExt cx="1447560" cy="1447560"/>
          </a:xfrm>
        </p:grpSpPr>
        <p:sp>
          <p:nvSpPr>
            <p:cNvPr id="223" name=""/>
            <p:cNvSpPr/>
            <p:nvPr/>
          </p:nvSpPr>
          <p:spPr>
            <a:xfrm>
              <a:off x="5562720" y="3809880"/>
              <a:ext cx="1447560" cy="1447560"/>
            </a:xfrm>
            <a:prstGeom prst="ellipse">
              <a:avLst/>
            </a:prstGeom>
            <a:solidFill>
              <a:srgbClr val="eba045"/>
            </a:solidFill>
            <a:ln w="9360">
              <a:solidFill>
                <a:srgbClr val="eba0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43600" y="4114440"/>
              <a:ext cx="222120" cy="9144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23760" y="4647960"/>
              <a:ext cx="187560" cy="4572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629400" y="4342320"/>
              <a:ext cx="131760" cy="38124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6248520" y="3885120"/>
              <a:ext cx="131760" cy="38124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133720" y="3886200"/>
            <a:ext cx="1447560" cy="1447920"/>
            <a:chOff x="2133720" y="3886200"/>
            <a:chExt cx="1447560" cy="1447920"/>
          </a:xfrm>
        </p:grpSpPr>
        <p:sp>
          <p:nvSpPr>
            <p:cNvPr id="229" name=""/>
            <p:cNvSpPr/>
            <p:nvPr/>
          </p:nvSpPr>
          <p:spPr>
            <a:xfrm>
              <a:off x="2133720" y="3886200"/>
              <a:ext cx="1447560" cy="144792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4600" y="4191120"/>
              <a:ext cx="222120" cy="9144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165480" y="4191120"/>
              <a:ext cx="187200" cy="4572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2971800" y="4724640"/>
              <a:ext cx="131760" cy="38088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162920" y="3733920"/>
            <a:ext cx="1447560" cy="1447560"/>
            <a:chOff x="7162920" y="3733920"/>
            <a:chExt cx="1447560" cy="1447560"/>
          </a:xfrm>
        </p:grpSpPr>
        <p:sp>
          <p:nvSpPr>
            <p:cNvPr id="234" name=""/>
            <p:cNvSpPr/>
            <p:nvPr/>
          </p:nvSpPr>
          <p:spPr>
            <a:xfrm>
              <a:off x="7162920" y="3733920"/>
              <a:ext cx="1447560" cy="144756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3800" y="4038480"/>
              <a:ext cx="222120" cy="91404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042400" y="4571640"/>
              <a:ext cx="187200" cy="45684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001000" y="4037760"/>
              <a:ext cx="131760" cy="38052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886200"/>
            <a:ext cx="1447560" cy="1447920"/>
            <a:chOff x="533520" y="3886200"/>
            <a:chExt cx="1447560" cy="1447920"/>
          </a:xfrm>
        </p:grpSpPr>
        <p:sp>
          <p:nvSpPr>
            <p:cNvPr id="239" name=""/>
            <p:cNvSpPr/>
            <p:nvPr/>
          </p:nvSpPr>
          <p:spPr>
            <a:xfrm>
              <a:off x="533520" y="3886200"/>
              <a:ext cx="1447560" cy="1447920"/>
            </a:xfrm>
            <a:prstGeom prst="ellipse">
              <a:avLst/>
            </a:prstGeom>
            <a:solidFill>
              <a:srgbClr val="eba045"/>
            </a:solidFill>
            <a:ln w="9360">
              <a:solidFill>
                <a:srgbClr val="eba0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371600" y="4267440"/>
              <a:ext cx="187200" cy="4572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4191120"/>
              <a:ext cx="222120" cy="9144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400800" y="5410080"/>
            <a:ext cx="1447920" cy="1447920"/>
            <a:chOff x="6400800" y="5410080"/>
            <a:chExt cx="1447920" cy="1447920"/>
          </a:xfrm>
        </p:grpSpPr>
        <p:sp>
          <p:nvSpPr>
            <p:cNvPr id="243" name=""/>
            <p:cNvSpPr/>
            <p:nvPr/>
          </p:nvSpPr>
          <p:spPr>
            <a:xfrm>
              <a:off x="6400800" y="5410080"/>
              <a:ext cx="1447920" cy="1447920"/>
            </a:xfrm>
            <a:prstGeom prst="ellipse">
              <a:avLst/>
            </a:prstGeom>
            <a:solidFill>
              <a:srgbClr val="bde15d"/>
            </a:solidFill>
            <a:ln w="9360">
              <a:solidFill>
                <a:srgbClr val="bde1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8000" y="5562720"/>
              <a:ext cx="222120" cy="9144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29400" y="5715000"/>
              <a:ext cx="222120" cy="9144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solidFill>
              <a:srgbClr val="bde15d"/>
            </a:solidFill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466760" y="5715000"/>
              <a:ext cx="187560" cy="4572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solidFill>
              <a:srgbClr val="bde15d"/>
            </a:solidFill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391520" y="6323760"/>
              <a:ext cx="131760" cy="38124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solidFill>
              <a:srgbClr val="bde15d"/>
            </a:solidFill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238160" y="5638680"/>
              <a:ext cx="187560" cy="457200"/>
            </a:xfrm>
            <a:custGeom>
              <a:avLst/>
              <a:gdLst/>
              <a:ahLst/>
              <a:rect l="l" t="t" r="r" b="b"/>
              <a:pathLst>
                <a:path w="152" h="624">
                  <a:moveTo>
                    <a:pt x="0" y="0"/>
                  </a:moveTo>
                  <a:cubicBezTo>
                    <a:pt x="68" y="92"/>
                    <a:pt x="136" y="184"/>
                    <a:pt x="144" y="288"/>
                  </a:cubicBezTo>
                  <a:cubicBezTo>
                    <a:pt x="152" y="392"/>
                    <a:pt x="64" y="568"/>
                    <a:pt x="48" y="624"/>
                  </a:cubicBezTo>
                </a:path>
              </a:pathLst>
            </a:custGeom>
            <a:noFill/>
            <a:ln w="76320">
              <a:solidFill>
                <a:srgbClr val="0f11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7238880" y="6323760"/>
              <a:ext cx="131760" cy="38124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7086600" y="6400800"/>
              <a:ext cx="131760" cy="38088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0" y="0"/>
                  </a:moveTo>
                  <a:cubicBezTo>
                    <a:pt x="44" y="72"/>
                    <a:pt x="88" y="144"/>
                    <a:pt x="96" y="192"/>
                  </a:cubicBezTo>
                  <a:cubicBezTo>
                    <a:pt x="104" y="240"/>
                    <a:pt x="76" y="264"/>
                    <a:pt x="48" y="288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285520" y="6048720"/>
            <a:ext cx="118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trisomy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2n+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16560" y="6048720"/>
            <a:ext cx="167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monosomy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2n-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1790640" y="4991040"/>
            <a:ext cx="457200" cy="380880"/>
          </a:xfrm>
          <a:custGeom>
            <a:avLst/>
            <a:gdLst>
              <a:gd name="textAreaLeft" fmla="*/ 712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95280" y="5410080"/>
            <a:ext cx="1447920" cy="1447920"/>
            <a:chOff x="1295280" y="5410080"/>
            <a:chExt cx="1447920" cy="1447920"/>
          </a:xfrm>
        </p:grpSpPr>
        <p:sp>
          <p:nvSpPr>
            <p:cNvPr id="255" name=""/>
            <p:cNvSpPr/>
            <p:nvPr/>
          </p:nvSpPr>
          <p:spPr>
            <a:xfrm>
              <a:off x="1295280" y="5410080"/>
              <a:ext cx="1447920" cy="1447920"/>
            </a:xfrm>
            <a:prstGeom prst="ellipse">
              <a:avLst/>
            </a:prstGeom>
            <a:solidFill>
              <a:srgbClr val="bde15d"/>
            </a:solidFill>
            <a:ln w="9360">
              <a:solidFill>
                <a:srgbClr val="bde1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523880" y="5562720"/>
              <a:ext cx="1025640" cy="1218960"/>
              <a:chOff x="1523880" y="5562720"/>
              <a:chExt cx="1025640" cy="1218960"/>
            </a:xfrm>
          </p:grpSpPr>
          <p:sp>
            <p:nvSpPr>
              <p:cNvPr id="257" name=""/>
              <p:cNvSpPr/>
              <p:nvPr/>
            </p:nvSpPr>
            <p:spPr>
              <a:xfrm>
                <a:off x="1752480" y="5562720"/>
                <a:ext cx="222480" cy="9144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523880" y="5715000"/>
                <a:ext cx="222480" cy="9144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solidFill>
                <a:srgbClr val="bde15d"/>
              </a:solidFill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2362320" y="5715000"/>
                <a:ext cx="187200" cy="4572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solidFill>
                <a:srgbClr val="bde15d"/>
              </a:solidFill>
              <a:ln w="7632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2133720" y="6400800"/>
                <a:ext cx="131760" cy="380880"/>
              </a:xfrm>
              <a:custGeom>
                <a:avLst/>
                <a:gdLst/>
                <a:ahLst/>
                <a:rect l="l" t="t" r="r" b="b"/>
                <a:pathLst>
                  <a:path w="104" h="288">
                    <a:moveTo>
                      <a:pt x="0" y="0"/>
                    </a:moveTo>
                    <a:cubicBezTo>
                      <a:pt x="44" y="72"/>
                      <a:pt x="88" y="144"/>
                      <a:pt x="96" y="192"/>
                    </a:cubicBezTo>
                    <a:cubicBezTo>
                      <a:pt x="104" y="240"/>
                      <a:pt x="76" y="264"/>
                      <a:pt x="48" y="288"/>
                    </a:cubicBezTo>
                  </a:path>
                </a:pathLst>
              </a:custGeom>
              <a:solidFill>
                <a:srgbClr val="bde15d"/>
              </a:solidFill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33720" y="5638680"/>
                <a:ext cx="187200" cy="457200"/>
              </a:xfrm>
              <a:custGeom>
                <a:avLst/>
                <a:gdLst/>
                <a:ahLst/>
                <a:rect l="l" t="t" r="r" b="b"/>
                <a:pathLst>
                  <a:path w="152" h="624">
                    <a:moveTo>
                      <a:pt x="0" y="0"/>
                    </a:moveTo>
                    <a:cubicBezTo>
                      <a:pt x="68" y="92"/>
                      <a:pt x="136" y="184"/>
                      <a:pt x="144" y="288"/>
                    </a:cubicBezTo>
                    <a:cubicBezTo>
                      <a:pt x="152" y="392"/>
                      <a:pt x="64" y="568"/>
                      <a:pt x="48" y="624"/>
                    </a:cubicBezTo>
                  </a:path>
                </a:pathLst>
              </a:custGeom>
              <a:noFill/>
              <a:ln w="76320">
                <a:solidFill>
                  <a:srgbClr val="0f11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 rot="5400000">
            <a:off x="6896160" y="4991040"/>
            <a:ext cx="457200" cy="380880"/>
          </a:xfrm>
          <a:custGeom>
            <a:avLst/>
            <a:gdLst>
              <a:gd name="textAreaLeft" fmla="*/ 712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BF01-4A7F-48C2-A570-81E67B52396D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uman chromosome disorder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igh frequency in huma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st embryos are spontaneously abort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terations are too disastrou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velopmental problems result from biochemical imbalanc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ertain conditions are tolerate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pset the balance less =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urviv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haracteristic set of symptoms = </a:t>
            </a:r>
            <a:br>
              <a:rPr sz="2800"/>
            </a:b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syndro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1A5C-F136-473F-BC11-DE5F303D3444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wn syndrom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9000" t="0" r="10800" b="2162"/>
          <a:stretch/>
        </p:blipFill>
        <p:spPr>
          <a:xfrm>
            <a:off x="6400800" y="380880"/>
            <a:ext cx="2697120" cy="4114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0" t="0" r="12000" b="0"/>
          <a:stretch/>
        </p:blipFill>
        <p:spPr>
          <a:xfrm>
            <a:off x="6172200" y="4518000"/>
            <a:ext cx="2852640" cy="2238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307200" y="35053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32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isomy 21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copies of chromosome 21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in 700 children born in U.S.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hromosome 21 i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mallest human chromosom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ut still severe effec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equency of Dow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yndrome correlate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ith the age of the moth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isomy 21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12000" r="0" b="22504"/>
          <a:stretch/>
        </p:blipFill>
        <p:spPr>
          <a:xfrm>
            <a:off x="685800" y="1712880"/>
            <a:ext cx="8305920" cy="4078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BD4A-AF74-4FEF-8508-9AAB7EC0710A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wn syndrome &amp; age of moth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762120" y="1295280"/>
          <a:ext cx="4343400" cy="544212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Mother’s ag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Incidence of Down Syndrom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Under 3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&lt;1 in 10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9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4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3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23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18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13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10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6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3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2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1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116a"/>
                          </a:solidFill>
                          <a:latin typeface="Arial"/>
                        </a:rPr>
                        <a:t>1 in 1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</a:tbl>
          </a:graphicData>
        </a:graphic>
      </p:graphicFrame>
      <p:pic>
        <p:nvPicPr>
          <p:cNvPr id="277" name="" descr=""/>
          <p:cNvPicPr/>
          <p:nvPr/>
        </p:nvPicPr>
        <p:blipFill>
          <a:blip r:embed="rId1"/>
          <a:srcRect l="0" t="2252" r="0" b="0"/>
          <a:stretch/>
        </p:blipFill>
        <p:spPr>
          <a:xfrm>
            <a:off x="5208480" y="2362320"/>
            <a:ext cx="3783240" cy="27730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5345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6918-C1CC-4145-9B92-5EF579F4814F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Education WD Interactive</cp:keywords>
  <dc:language>en-US</dc:language>
  <cp:lastModifiedBy> </cp:lastModifiedBy>
  <cp:lastPrinted>2006-02-01T11:34:33Z</cp:lastPrinted>
  <dcterms:modified xsi:type="dcterms:W3CDTF">2006-12-12T15:54:18Z</dcterms:modified>
  <cp:revision>279</cp:revision>
  <dc:subject>AP &amp; Regents Biology</dc:subject>
  <dc:title>AP &amp; Regents Biology</dc:title>
</cp:coreProperties>
</file>